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1BD-6B22-48C6-9DAB-8DA54FFB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F6D-EC7F-4D33-8A13-C3CD9490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850-B9AD-4760-ABE6-C4334D75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D10-9BF5-444D-B0ED-51CEE1F7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F40-BE56-4302-B767-E2811FF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388-A827-44E8-8E35-76A167FB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F79-9503-44C8-A69E-511A8ED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1A0-045C-4EEF-9D2F-86682E52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61A-B194-43DB-8021-F92675DD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D19-3077-420B-9AF4-1DAD8D95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17D-2484-4F1D-9E1A-281444E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7F6-4BA1-4B8E-8AD5-C1877AA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A55-483E-4184-A280-2F9FB7C4C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730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 (12 mark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/catego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vs neg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onomic/Political/Milit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term/long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 of today, tomorrow and homework…. First draft of your answer, for peer review on Thur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157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 brainstorm the main effects of the Yom Kippur War on Arab Israeli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formation sheets &amp; p43-45 In your textbook to find the key effects/consequences of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much detail at this stage, just the main ‘heading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10 minutes – so divide the work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head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04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 to Camp David and pe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il we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ypt moves towards USA away from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raeli uncertainty, no longer ‘David’, no longer ‘invincibl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estinians and 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refugees = greater instability, especially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out of peace process, greater support for PLO – to fight for peace their own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banon: ‘Fatahland’ attacks on Israel + Israeli peace with Egypt = invasions. Deva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r pe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Egypt isolated, Sadat assassinated. Chances don’t look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ergence of a new Arab champ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ab world uses the ‘oil weapon’: severe strain on economies of Israel’s allies: mainly Europe and USA: they in turn apply pressure on Israel to withdraw and negot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 moves away from USSR and towards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raeli uncertainty + Sadat/Arab worlds new found confidence + USA pressure = chance for peace, culminating in Camp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every silver lining has a clou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results in even more refugees in Jordan and Lebanon – instability and growing support for PLO and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process leaves Palestinians out: situation without Egyptian support leaves them looking even more hope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PLO raids on Israel from refugee camps in Lebanon + Israeli peace with Egypt provide motive and opportunity for Israeli invasions of Leban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consequences of Egypt ste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hoved?) a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ian relations with rest of the Arab world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dat assassin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ces of wider Arab-Israeli peace talks reduced – no military pressure from Egypt and also Arab leaders looking at consequences for Sadat of ‘going it al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consequences for Isr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ar in which they suffered substantial casualties and POW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+ the later experience of the wars in Lebanon led to growth of ‘Israeli peace movement’ in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der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mp David isolates Egypt from rest of Arab world: they feel betrayed by Sadat’s ‘go it alone’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ab world is now lacking a clear leader. Syria tries to take on the role, but ultimately too small and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 Saddam Hussein: backed by the US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the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marks = 800 words appr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Immediate consequences (who won etc) and how you are going to answer the question (categories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: remember to have clear ‘sections’ with linking sentences. Focus throughout on the effect of the war on Arab-Israeli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4:50:34Z</dcterms:created>
  <dc:creator>Chris&amp;Kim</dc:creator>
  <dc:description/>
  <dc:language>en-US</dc:language>
  <cp:lastModifiedBy>Mr. Wright</cp:lastModifiedBy>
  <dcterms:modified xsi:type="dcterms:W3CDTF">2008-10-28T10:06:21Z</dcterms:modified>
  <cp:revision>19</cp:revision>
  <dc:subject/>
  <dc:title>Slide 1</dc:title>
</cp:coreProperties>
</file>